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F3E-6842-4281-B8C6-6AE5619A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947-F3D3-425F-ADBE-02533568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F9B78-28B9-4338-B3F1-3B7A28DC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2BD62-2FF0-4DAC-A3AD-3B63280B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0C90D-B67D-47A3-9ABE-C29393E7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FA051-71BF-470F-B026-377A5CEB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B5533-7A28-4865-8D71-C74126E7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B3A3B-2D1B-4E7E-9CA8-3358C89A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11B37-611C-46D3-A10B-A3A1429F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F5B55-BFB2-4535-A46A-C2E4DD18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05380-B0DA-423B-AC72-8B00A728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EF25A-3664-4F20-838E-4BEE01A7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C5E-E1CC-444C-A61E-6F185AA5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32A52-EE27-40DC-B254-7EB7023B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1C82F-30F1-4530-94F8-F0EE71C4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8FF8A-26F3-48DF-8C1F-183A5A92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10812-71B2-4089-B31F-14089B53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5F79B-F5EE-42D0-896B-465B9EAF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2E120-8705-43D5-8102-132C5732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F86E0-4053-417E-97FC-989421A6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A7C2E-E443-4250-AA69-8E703C17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737E4-7EB3-4858-9BF8-CCB5EFE6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857D9-3881-438D-9AE3-F594B8E2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89B-5A92-41D9-8ACA-6969ABA4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F0162-B51E-4BF1-A526-756289AF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D68DE-8B1F-4453-B447-5F61B194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B8F59-0DD5-4E33-B54F-37772FB8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0F2B2-A0D2-422B-B41E-0A3497D3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0CFFF-A738-4EE6-8C51-602E7426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B25EF-938F-4847-90C8-DC541710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4955D-0E35-4FAA-BB84-D83F63D7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5EC23-3AFD-4C94-A4DD-E66F7495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16D8A-5AC9-422D-ACAC-1E258A99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0B898-16F3-49C6-9D80-5E2A482B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C71A-EBA2-4996-B5C9-511D6DEE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8972E-9B07-4A12-942C-A9188DAF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9A394-1EB7-46E4-BC51-4067E81E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7AC84-AB50-4184-93D4-AE4D99F1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33631-553F-47DB-8B73-0EDAF05B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00077-2B27-49A3-A00A-201F8D09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F17D5-871F-4B80-8E76-89281543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05514-5C35-48BA-9E26-368878BF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FEA1D-2000-453C-A570-469434F4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6DB6D-9A48-4444-9BBC-94845553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E2F5D-1F54-45D1-89EE-3270CDB7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E442-5F32-4F44-A1D8-4E4C5C2E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554F9-7409-449D-840A-9459BCF9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7631F-453A-4264-8068-3DFFBCEE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BA936-70A2-4AD9-8960-236B62C2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51465-1DFF-474D-A231-34FB40B2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18AB9-355B-4332-8970-0929E175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8B22-3ED4-4BF2-A5D8-97189A8E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DC88-B329-4806-8CCB-93DB8EBC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6694-F7DA-42E7-A6F7-8406DCC1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9A4D-165A-47BF-BDE9-149C9844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FD06-74FD-41FC-9580-CB9D02C1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387-F58A-4A40-9E00-55E4889C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BE21-684D-412E-8D38-DD8E52F3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77D6-6CE3-406D-B8DC-97EA32D7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E2B5-640A-4407-845C-5E02A913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D944-C03E-4E7C-861D-9DA90989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70E9-92CB-411A-B1F3-EB5C8DC7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5E1A-91CD-49B1-8B1F-854B9CCD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487C-FB72-460C-9073-4D48F488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7522-C9F5-4154-BC82-558E987E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8B081-0238-4CD9-BACF-988A5EBB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3A50-E6A1-47F9-8B27-F31E0F03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4A6-8E9D-4BAE-9203-79588299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303AD-0B79-4442-B47A-1F349961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81DC-D676-496E-AB8A-562943C0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8B28-6C91-464F-B1AB-D448DDFF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B3DD-A7A8-45B2-A6D7-E3A16B0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4748A-AE0D-48D2-8A9B-5797B567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8E2A-E800-41DA-A1EE-F52204DB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AD6F-5612-4B5A-B896-4301506B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83CCB-2099-4227-9F68-C39A135B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4E500-4CA2-4B47-AE1D-D7A30CBF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4D3F-87E3-4071-8105-C3973B9F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7A1-F535-45F1-A6BF-8EEB6A59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4C52F-9B44-4450-AE5D-ACAC72FF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F3A30-3274-453D-8564-3CA1D006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A0D73-63EC-403C-8B49-B27A04A6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2E865-1C37-4DF4-A62B-107B61EE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55444-E8FB-411B-8194-CE7815E7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5B397-B64D-495A-8FA6-B5702DAA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C87B0-B767-4641-A551-E9D5FE40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1003C-2F6F-46B9-898D-D32B77E8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A6E10-601F-4518-BC8F-E198C2E4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33B3D-E67D-410A-A559-CB53108A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963-575E-49B9-AC30-4AB371D3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9B8E0-BCAD-4CA5-A330-D5F30B0C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4708A-B5C1-4DAB-8215-CA235394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8575A-1846-4973-9B84-1ADC1469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A7B8D-EC6C-423D-871D-0A8E4869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9A414-67DA-48DC-9BE0-C77C9325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0450E-C1D1-40E9-ACDD-49891AF5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A296-EA87-4BB3-A7AD-D317393D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BF3AB-DE52-460B-A130-BADB45D7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6F147-608A-491E-9966-2817E723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80650-AE7B-408D-B5CD-9BBD7369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31E-0DEA-4579-8BF0-640CBF97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524DC-63A8-4110-94D9-C5DC4842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72688-728F-4EC2-9DD6-19334DE1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0C56A-8B66-4A17-B1D3-7FAA64D9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CBBF9-4BE8-4E96-8302-D8552A27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89667-CF1E-4273-BF0E-7C91E219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7E792-5937-40A0-8B13-F1CE6665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6EA25-CC6F-4E69-A477-88E6C931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82FE7-C3C4-4B3D-82FD-504005CD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BA961-533B-42F7-8B6C-123B1B57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3B77A-CB2D-43C9-86B5-E3A2F672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61F-A7C6-4C6A-9830-628F2B5D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6B2F3-419C-45DB-89B5-CC52BB31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50373-1F52-4D30-8BB6-299B7832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F1766-98BC-4F70-BD26-6DCA13C0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29C18-416C-486F-B7FD-F0B8B8C6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B656E-FC77-454C-9458-CEEF0341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87B2B-DC0B-4D7B-AABE-F2332ABF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8381E-121B-46DD-B231-424BAF61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2B706-5688-41DE-B4AF-65239EF0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85D8C-5985-4660-812D-4B0A99D5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7025B-83CF-4C11-B80B-893A5477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F37-04BA-4810-94D2-2DC9EEFF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92F88-2CCA-4B41-A67A-5FE29636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EBB51-C91C-43B1-9D75-3F42DBB1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2777A-A090-4FB2-B5DE-AE27C3C6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D4ACF-70DE-4F78-ABC6-6743A3BB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8F05C-5420-42D0-976A-0C89C7C6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4D4B5-C5B0-464F-BD68-3C8343E6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095F0-19AF-4725-8024-83D03D43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6471B-1BC7-441C-ADC7-F0FD46B5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10A15-4EDA-4DFE-9DB0-2E826A4A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42C2E-3C7E-4974-A8C7-219D2A1D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BF7-9718-4C33-AA80-52F1115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D0278-373F-46A4-82DE-7D8D4DDD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79758-D52F-4786-8805-8304A7ED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64F6C-48F7-4914-B16F-F5D2FAA1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2F3D4-75DE-469B-A84E-5C214D6A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488E7-C9C1-4FBB-A6C2-E5C03074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0FE09-166B-4575-AF04-03321828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988B8-A89E-4719-A9E6-F9FB2D78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9C244-9C38-4ADD-8220-1F378BC8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D3D60-F597-4581-8D4A-BEF82479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C4591-281C-4F52-87B7-A8168E4E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873E-6E28-4EC9-80F0-0F1359B62B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2993-3E05-4005-ABDA-2A20FCD2B40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EF7D-E3AD-421F-9823-4B5B8856D6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D539-8AB4-4FFD-A5C0-B971929200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FFA5-4BFA-4596-9EE8-13C732CFBA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BF45-0008-4922-B0AD-BE780C55B5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4E85-9334-45B1-99B9-485D49DD4CD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C957-19A6-4052-9B47-7BDEA70162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D300-BF46-476B-87D6-62DE3CB2E9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FCAB-97CC-4076-9925-B093317D08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BB3A-6395-4569-A7B6-917E139C45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1096-D4C3-4A25-9C3A-A2632A207C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88 Posvät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obotný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svätiť deň sobot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ikázal nám Hospodi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ď on sám ho oddel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žehnal a posväti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i ja prácu odklad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ô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u v úcte má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icho vôkol, svätý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znieva k nám Pánov hlas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šetci, čo ste znav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íďte, ja vás občerství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odu živú chcem vám d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mannu z neba darov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žne volá Boží Syn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klesaj pod ťarchou vín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ojou krvou máš i t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aždý svoj hriech obmyt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mnou poď, ja dať ti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ý domov, novú 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Príď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Duch</a:t>
            </a:r>
            <a:r>
              <a:rPr b="1" lang="sk-SK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vätý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o</a:t>
            </a:r>
            <a:r>
              <a:rPr b="1" lang="sk-SK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mnou</a:t>
            </a:r>
            <a:r>
              <a:rPr b="1" lang="sk-SK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uď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áskou naplň srdce, hru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ou mocou pri mne st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rnosť daj i pokoj svo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raz môžem, kde si 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 sláv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oboty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09:56Z</dcterms:modified>
  <cp:revision>23</cp:revision>
  <dc:subject/>
  <dc:title>Je veľký náš Pán, on slávy je Kráľ Nech do všetkých strán  spev vrúcnych znie chvál.</dc:title>
</cp:coreProperties>
</file>